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278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27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27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27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27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278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27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278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278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21093" t="50002" r="25782" b="28124"/>
          <a:stretch/>
        </p:blipFill>
        <p:spPr>
          <a:xfrm>
            <a:off x="5257800" y="0"/>
            <a:ext cx="3886200" cy="12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441972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0" y="-3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Actividades de la Asoci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 Personal de la O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Julio – Diciembre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unión abierta del Comité de 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09480" y="45720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Washington,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17 de febrer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1093" t="50002" r="25782" b="28124"/>
          <a:stretch/>
        </p:blipFill>
        <p:spPr>
          <a:xfrm>
            <a:off x="5181480" y="5380200"/>
            <a:ext cx="38102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suntos de Personal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resupuesto 2011 – Reducción de Personal y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omiso por desvinculaciones voluntarias de funcionarios, excluyendo casos de expiración de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guardo por asegurar igualdad en paquetes de bene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mplimiento del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istema de Evaluación de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ualmente, en la tercera etapa de la fase piloto d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icancias de renunciar al derecho de apelación al aceptar la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ntratos, concursos y reclas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ridades de la SAF en continuar con procesos de contratación, concursos y reclas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amada a concurso por contratos continuos prontamente para cumplir con el cupo reglam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suntos de Personal </a:t>
            </a: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(cont.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28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Revisión de normas 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dato de la Asamblea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busca simplificar el número de tipos de contrato sin eliminar bene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dministración se comprometió a trabajar con la Asociación de Personal en la propuesta que se presente a la CA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Ombu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resentó a la Secretaría una terna de candidatos que están dispuestos a cumplir estas funciones sin cobrar por su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omité continua a la espera de la respuesta de la Secreta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495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495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Calibri"/>
              </a:rPr>
              <a:t>Comités Mixtos y Grupos de Trabajo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mité Mixto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ble impacto negativo sobre los copagos del personal dada l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minución en las contribuciones de la Secretaría General al Fondo de Salud en el presupuesto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Licencia por paternidad y Uniones de h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uestas presentadas al Secretario General en octubre d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sión también de padres adop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ualmente está siendo revisada por el Departamento de Leg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Madres en estado de lac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omité buscará formalizar prácticas ad-hoc para que se incluyan en e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Calibri"/>
              </a:rPr>
              <a:t>Comités Mixtos y Grupos de Trabajo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(cont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el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tomará el tema en busca de consistencia con las opciones que ofrece el gobierno federal en Washington, D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Grupo de Gé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ción a la Secretaría en julio de 2010 sobre los resultados del análisis sobre la situación de género en la O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moción del Personal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réstamos Fondo Leo R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ante 2010 se otorgaron 33 Préstamos a miembros contribuyentes de la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uesta a beneficiarios mostró qu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7% afirman que el campo de estudio se relaciona a su línea de trabajo y 16.1% de ellos concluyeron que sus estudios ayudaron a su reclasificación o promoción dentro de la O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remio Terry W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orgado en 2010 al Sr William Bere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leres in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leres sobre asuntos migratorios en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les sobre inversiones y manejo de fondo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ctividades recreativa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071800"/>
            <a:ext cx="9144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Exhibición Anual del Grupo de Arte, Junio d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Fiesta de Halloween, Octubre d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orneo de Fútbol de la temporada de verano, julio d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Registro en la </a:t>
            </a:r>
            <a:r>
              <a:rPr b="0" i="1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yclist Association</a:t>
            </a: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de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Feria de Salud de la O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romoción de la iniciativa </a:t>
            </a:r>
            <a:r>
              <a:rPr b="0" i="1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Walking Work</a:t>
            </a: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en el marco de la Feria de Salud de la O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Organización del Bazar Anual de la O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Organización de la Fiesta Infantil de Fin de Año, diciembr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ordinación del Gift Shop de la O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cción Humanitari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981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071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lectas de fondos a solicitud del personal 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“</a:t>
            </a:r>
            <a:r>
              <a:rPr b="0" lang="es-ES_tradnl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Mochilas para Haití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o a la iniciativa de la OEA en los esfuerzos de reconstrucción de Hai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oy Drive para la Clínica del Pueb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8:52:36Z</dcterms:created>
  <dc:creator>Emil Caillaux</dc:creator>
  <dc:description/>
  <dc:language>en-US</dc:language>
  <cp:lastModifiedBy>oastaffadmin</cp:lastModifiedBy>
  <dcterms:modified xsi:type="dcterms:W3CDTF">2011-03-02T20:15:57Z</dcterms:modified>
  <cp:revision>18</cp:revision>
  <dc:subject/>
  <dc:title>Insertar texto aqui</dc:title>
</cp:coreProperties>
</file>