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278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27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27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27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27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27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27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27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278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24220" t="46877" r="33597" b="31250"/>
          <a:stretch/>
        </p:blipFill>
        <p:spPr>
          <a:xfrm>
            <a:off x="6095880" y="0"/>
            <a:ext cx="3048120" cy="11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441972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0" y="-3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tivities of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AS Staff Asso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July – December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pen Session with the Staff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609480" y="45720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ashington,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ebruary 17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4400" y="838080"/>
            <a:ext cx="72388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tivities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AS Staff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July – December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pen Session with the Staff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43131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ashington,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ebruary 17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38680" y="5392800"/>
            <a:ext cx="342900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taff Issue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288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2011 Budget – Reduction of Staff and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itment to voluntary separations of staff members, not including the expiration of short term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urance of equality in the benefits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iance with the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erformance Evalu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are currently in the third stage of the pilot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ication of relinquishing the right to appeal by accepting th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Contracts, competitions and re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urance from SAF that the process of contracts, competitions and reclassifications will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etition for continuing contracts will be opened in the near future to comply with the regulatory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taff Issues </a:t>
            </a:r>
            <a:r>
              <a:rPr b="1" i="1" lang="en-US" sz="4400" spc="-1" strike="noStrike">
                <a:solidFill>
                  <a:srgbClr val="0000ff"/>
                </a:solidFill>
                <a:latin typeface="Calibri"/>
              </a:rPr>
              <a:t>(cont.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Review of the Gener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date of the Special General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sought is the simplification of the number of contracts without the elimination of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dministration gave assurances that it would work with the Staff Association with regard to the proposal to be presented to the CA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Ombud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eneral Secretariat was presented with a short-list of candidates willing to carry out these functions free-of-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mmittee is awaiting a response from the General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495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495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Mixed Committees and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Working Grou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28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Mixed Health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negative impact on copayments by staff, given the reduction of the contributions made by the General Secretariat to the Health Fund in the Organization’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aternity Leave and domestic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s presented to the Secretary General in October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includes adoptive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currently being reviewed by the Department of Leg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Lactating M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mmittee will seek to formalize the ad-hoc practices in order for this issue to be included in the Staff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Mixed Committees and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Working Groups 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(cont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28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ele-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sue will be readdressed with the goal of offering the same options offered by the Federal Government in Washington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Group on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to the General Secretariat in July, 2010 of the results of the analysis of the situation on gender at the 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taff Promotio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28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Leo Rowe Fund 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ing 2010, 33 loans were granted to contributing members of the Associ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 survey to beneficiaries, 87% indicated that their field of study was related to their line of work and 16.1% of those concluded that their studies assisted in their reclassification or promotion within the 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erry Woods A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warded to Mr. William Berenson in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Informative 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shops on USA immigrat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shops on investment and management of personal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Recreational Activitie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71800"/>
            <a:ext cx="9144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Annual Exhibition of the OAS Art Group, June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Halloween Party, October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Summer Soccer Tournament, July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Registration in the DC Cyclist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OAS Health F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romotion of the </a:t>
            </a:r>
            <a:r>
              <a:rPr b="0" i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Walking Work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initiative within the framework of the OAS Health F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Organization of the OAS Annual Baz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Organization of the End of Year Children’s Party, December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Coordination of the OAS Gift 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Humanitarian Assistanc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0718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Funds collected at staff request 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Backpacks for Hait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to the OAS initiative for the reconstruction efforts in Ha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oy Drive for the “Clínica del Puebl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8:52:36Z</dcterms:created>
  <dc:creator>Emil Caillaux</dc:creator>
  <dc:description/>
  <dc:language>en-US</dc:language>
  <cp:lastModifiedBy>oastaffadmin</cp:lastModifiedBy>
  <dcterms:modified xsi:type="dcterms:W3CDTF">2011-03-02T20:16:21Z</dcterms:modified>
  <cp:revision>23</cp:revision>
  <dc:subject/>
  <dc:title>Insertar texto aqui</dc:title>
</cp:coreProperties>
</file>